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000-6CCB-4FDB-9C69-5352AA12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461-DFA1-4760-B99A-5BF42DE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D33-8B0B-49F6-B47D-70D57CE2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07D-9F0F-4318-9611-019C33AC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00DF-80F5-433A-A2ED-0B9BABB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791C-6092-4257-8887-B67E65AE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581D-5DD8-408F-BD21-DD57583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BF3-603A-4EB6-B93F-B24FB83A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82C-D9AD-4A49-9F24-A727C3BF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4D14-1128-4F04-9BCD-E7FD446A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AB6-12E2-409E-8943-AD64991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827-C7A1-4A9C-BAC7-169E02BB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112F-8196-401C-844C-8688534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51E-776D-4B84-9EF3-D34C466F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2642-EAE4-4063-9090-CD5A5D2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3FF2-E2F6-460D-B5FD-C2FA1655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1739-248C-4DFF-A51E-134704C7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BF3A-8535-4086-852E-85F85150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260F-453A-42B1-A8B8-A989951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82CA-0161-48B4-BBDB-8823F1A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563B-23ED-482E-9EC2-C4CB8C6A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C5C2-28BE-44A4-8896-FD2443A2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C8C-1BC0-4B39-AAA6-0001F203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1FB8-CB76-4F5D-AB08-1481DEE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9A93-C55F-4305-B005-B5DD183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4FBB-D558-4BE4-B5A4-C636D69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88DB-17A9-452F-B01C-954823BC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31CD-FA82-4EFB-8040-685C6DB5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2578-736C-41BC-94F3-301F561B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EAF6-ECE1-41B3-ABDC-7DFF1829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CEAB-9D80-4E6F-906F-58E64F18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5F48-6B5F-4D86-A46C-A37D12CE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0816-4890-4243-B81F-D6586FAB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37E-AD98-4D58-AC50-93E60E02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06F4-B84F-44B1-9218-F25571EA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68D2-6710-40A9-933F-B5757E37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E008-74DE-4FCA-86D1-1B710C62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AB60-069C-46F5-9ECD-25BCED7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3D01-7994-4749-87FA-D311BF8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828B-2CD2-4490-9BF3-022CF4E9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A866-8DBB-4716-A626-E64E929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A14B-B4F7-40FA-AB64-E37268D4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5C6B-67A7-4A72-8D57-F3BA81A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25DF-4DF4-4832-BCED-09B40E7B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E92-9993-45D3-8275-4EB14FFF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D86C3-20F5-4272-A6C0-6F8B9516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7FA6-412B-4116-BFB8-C3F89AE7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EB686-4762-46D9-89C8-2A2FA2D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5568A-E718-4783-8E7A-3364294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EFA0-DCA6-4502-96CD-743F7C41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17F2-B36C-427E-9A4D-B80AAEF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10D7-E7AB-4BE5-BD3E-9E1A3C2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97CD-5510-447F-90F0-2AB648C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DA65F-F625-4C95-BDC3-D3A1EB99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C6C8-1405-4AB4-9DF7-90B627A3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C58-A543-4AD7-9E51-083E571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0B81-67D0-4FC7-A3AF-11E8749E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F555E-0126-4449-B979-6C78AFD2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3907-B8AB-4E2E-A3F8-5A3B13E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A686-5131-4A2E-96CE-6EB2CBA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852F-41F8-48F2-8ECB-50349DCC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60C1C-A4EF-43DF-BAD9-F43BD7D8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5916-6BC2-4A3F-A091-53F776F4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C2442-BB10-4092-84EF-C694AF9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8F810-B82E-4E41-A5D5-0A75A6D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C645-797C-4325-9152-4FA13D51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B64-4063-4192-BD30-232F3D4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1220E-CA15-43AB-83ED-ADE31D4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802B-AF46-45DB-BD2C-CE589D94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D0F1-B227-4695-803B-7B3410FC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2E7DF-EFCE-4EE9-91F4-D8E6C700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279D-0F2D-4CB2-A8A3-D579BFE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794D-4994-45A2-979B-EB08B9A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2C12F-FBB7-4511-B222-AABC7614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6140-1080-4565-9D0F-F2F3A5C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EAA3-1582-49B0-9F7D-41568C31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D5C0A-0127-4905-A989-D8E3A7D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40E-C06F-4AF4-9ADE-EE4722E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961F-4791-4737-8DF3-D8D1CF2A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AE8C-4347-4670-AF6C-A04ABAC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F554-9470-4DF0-894F-3346F294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3F9F-1D87-4C37-8AD4-ED701B73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7E7F-60FE-48CD-9FFD-42886E34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4A0-13BC-4650-9DB7-7B75EEA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3A5-3357-45F5-A9DD-4E26069FA3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5E10-3C2F-4796-BEA3-83BDAC4F3D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0EC-6A41-4A98-A1BD-B367FD359C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4970-107E-438D-8780-2D36F04814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BF5-6FAA-4180-9768-8A2345A655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B77C-E4F0-4AF5-9DDF-4EB291BB2C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0CEF-DE7C-4DC8-BCAF-8193699B7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users.att.sch.gr/apappas/count/click.php?id=7" TargetMode="External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9"/>
          <p:cNvSpPr/>
          <p:nvPr/>
        </p:nvSpPr>
        <p:spPr>
          <a:xfrm>
            <a:off x="6709320" y="59436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ie 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una 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2" descr="spacer"/>
          <p:cNvPicPr/>
          <p:nvPr/>
        </p:nvPicPr>
        <p:blipFill>
          <a:blip r:embed="rId2"/>
          <a:stretch/>
        </p:blipFill>
        <p:spPr>
          <a:xfrm>
            <a:off x="155520" y="4608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3"/>
          <p:cNvSpPr/>
          <p:nvPr/>
        </p:nvSpPr>
        <p:spPr>
          <a:xfrm>
            <a:off x="42512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5" descr="spacer"/>
          <p:cNvPicPr/>
          <p:nvPr/>
        </p:nvPicPr>
        <p:blipFill>
          <a:blip r:embed="rId3"/>
          <a:stretch/>
        </p:blipFill>
        <p:spPr>
          <a:xfrm>
            <a:off x="155520" y="46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spacer"/>
          <p:cNvPicPr/>
          <p:nvPr/>
        </p:nvPicPr>
        <p:blipFill>
          <a:blip r:embed="rId4"/>
          <a:stretch/>
        </p:blipFill>
        <p:spPr>
          <a:xfrm>
            <a:off x="4486320" y="33433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8"/>
          <p:cNvSpPr/>
          <p:nvPr/>
        </p:nvSpPr>
        <p:spPr>
          <a:xfrm>
            <a:off x="426708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6" descr=""/>
          <p:cNvPicPr/>
          <p:nvPr/>
        </p:nvPicPr>
        <p:blipFill>
          <a:blip r:embed="rId5"/>
          <a:stretch/>
        </p:blipFill>
        <p:spPr>
          <a:xfrm>
            <a:off x="914400" y="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330" name="WordArt 77"/>
          <p:cNvSpPr txBox="1"/>
          <p:nvPr/>
        </p:nvSpPr>
        <p:spPr>
          <a:xfrm>
            <a:off x="2057400" y="1600200"/>
            <a:ext cx="5562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e Are Slop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Helping Oskar Escape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2 on pg. 66 (Group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2 Follow –Up #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g. 67 (Group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ACE Problems # 10-14, 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How did you use slopes to help Oskar escape from the fores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Explain how you would find the distance between two dots on a grid without measu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9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C:\Documents and Settings\bakerct4\Local Settings\Temporary Internet Files\Content.IE5\52ZZPIMS\MCj04061240000[1].wmf"/>
          <p:cNvPicPr/>
          <p:nvPr/>
        </p:nvPicPr>
        <p:blipFill>
          <a:blip r:embed="rId3"/>
          <a:stretch/>
        </p:blipFill>
        <p:spPr>
          <a:xfrm>
            <a:off x="7086600" y="4419720"/>
            <a:ext cx="158760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C:\Documents and Settings\bakerct4\Local Settings\Temporary Internet Files\Content.IE5\1SL3S27P\MCj04356340000[1].wmf"/>
          <p:cNvPicPr/>
          <p:nvPr/>
        </p:nvPicPr>
        <p:blipFill>
          <a:blip r:embed="rId3"/>
          <a:stretch/>
        </p:blipFill>
        <p:spPr>
          <a:xfrm>
            <a:off x="3657600" y="2819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3" name="Oval Callout 5"/>
          <p:cNvSpPr/>
          <p:nvPr/>
        </p:nvSpPr>
        <p:spPr>
          <a:xfrm>
            <a:off x="4648320" y="1752480"/>
            <a:ext cx="1523880" cy="1146240"/>
          </a:xfrm>
          <a:prstGeom prst="wedgeEllipseCallout">
            <a:avLst>
              <a:gd name="adj1" fmla="val -23750"/>
              <a:gd name="adj2" fmla="val 60805"/>
            </a:avLst>
          </a:prstGeom>
          <a:solidFill>
            <a:srgbClr val="ff8119"/>
          </a:solidFill>
          <a:ln w="5508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Thanks for helping me e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2"/>
          <a:stretch/>
        </p:blipFill>
        <p:spPr>
          <a:xfrm>
            <a:off x="1871640" y="378000"/>
            <a:ext cx="5754600" cy="115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http://www.algebrahelp.com/worksheets/cache/graph_599_q.png"/>
          <p:cNvPicPr/>
          <p:nvPr/>
        </p:nvPicPr>
        <p:blipFill>
          <a:blip r:embed="rId3"/>
          <a:stretch/>
        </p:blipFill>
        <p:spPr>
          <a:xfrm>
            <a:off x="3048120" y="1447920"/>
            <a:ext cx="3733560" cy="28954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9"/>
          <p:cNvSpPr/>
          <p:nvPr/>
        </p:nvSpPr>
        <p:spPr>
          <a:xfrm>
            <a:off x="1143000" y="47242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lope of the abov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What is the connection between the slope and points on    the l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609480" y="1600200"/>
            <a:ext cx="705672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Slope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of a line is re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tical change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 change       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-intercep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lope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y-inter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Documents and Settings\bakerct4\Local Settings\Temporary Internet Files\Content.IE5\R8BFHTTA\MCBD05420_0000[1].wmf"/>
          <p:cNvPicPr/>
          <p:nvPr/>
        </p:nvPicPr>
        <p:blipFill>
          <a:blip r:embed="rId3"/>
          <a:stretch/>
        </p:blipFill>
        <p:spPr>
          <a:xfrm>
            <a:off x="6095880" y="5334120"/>
            <a:ext cx="10670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8" name="05-01 Counting Units for Slope.wmv" descr=""/>
          <p:cNvPicPr/>
          <p:nvPr/>
        </p:nvPicPr>
        <p:blipFill>
          <a:blip r:embed="rId3"/>
          <a:stretch/>
        </p:blipFill>
        <p:spPr>
          <a:xfrm>
            <a:off x="17524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70332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Introducing Oscar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to page 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1 on pg. 65 (Individually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1 Follow-up on pg. 65 # 1a, 2a (Pair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ACE Problem 2,3,8 on pg. 68 - 69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2"/>
          <a:stretch/>
        </p:blipFill>
        <p:spPr>
          <a:xfrm>
            <a:off x="450720" y="1365120"/>
            <a:ext cx="8242560" cy="303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http://www.fotosearch.com/images/spacer.gif"/>
          <p:cNvPicPr/>
          <p:nvPr/>
        </p:nvPicPr>
        <p:blipFill>
          <a:blip r:embed="rId3"/>
          <a:stretch/>
        </p:blipFill>
        <p:spPr>
          <a:xfrm>
            <a:off x="6662880" y="38592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www.fotosearch.com/images/spacer.gif"/>
          <p:cNvPicPr/>
          <p:nvPr/>
        </p:nvPicPr>
        <p:blipFill>
          <a:blip r:embed="rId4"/>
          <a:stretch/>
        </p:blipFill>
        <p:spPr>
          <a:xfrm>
            <a:off x="155520" y="-13644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2162880" y="5105520"/>
            <a:ext cx="53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http://users.att.sch.gr/apappas/count/click.php?id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 flipH="1">
            <a:off x="838080" y="167652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 calculator, express the following square roots as a decimal to the nearest tenths and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C:\Documents and Settings\bakerct4\Local Settings\Temporary Internet Files\Content.IE5\R8BFHTTA\MCj04099590000[1].wmf"/>
          <p:cNvPicPr/>
          <p:nvPr/>
        </p:nvPicPr>
        <p:blipFill>
          <a:blip r:embed="rId3"/>
          <a:stretch/>
        </p:blipFill>
        <p:spPr>
          <a:xfrm>
            <a:off x="6858000" y="3886200"/>
            <a:ext cx="17305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1396080" y="2209680"/>
            <a:ext cx="675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Irrational and Rational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rrational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umber that does not repeat or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√2 = 1.4142.. ; 6 ∕ 7 =0.8571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tional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umber that does repeat or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¼ = 0.25; 1/9 = 0.111.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C:\Documents and Settings\bakerct4\Local Settings\Temporary Internet Files\Content.IE5\1SL3S27P\MCj03326800000[1].wmf"/>
          <p:cNvPicPr/>
          <p:nvPr/>
        </p:nvPicPr>
        <p:blipFill>
          <a:blip r:embed="rId3"/>
          <a:stretch/>
        </p:blipFill>
        <p:spPr>
          <a:xfrm>
            <a:off x="6477120" y="4724280"/>
            <a:ext cx="182556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Documents and Settings\bakerct4\Local Settings\Temporary Internet Files\Content.IE5\1SL3S27P\MPj04012290000[1].jpg"/>
          <p:cNvPicPr/>
          <p:nvPr/>
        </p:nvPicPr>
        <p:blipFill>
          <a:blip r:embed="rId3"/>
          <a:stretch/>
        </p:blipFill>
        <p:spPr>
          <a:xfrm>
            <a:off x="2514600" y="1981080"/>
            <a:ext cx="4267080" cy="3353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bakerct4\Local Settings\Temporary Internet Files\Content.IE5\1SL3S27P\MCj04356340000[1].wmf"/>
          <p:cNvPicPr/>
          <p:nvPr/>
        </p:nvPicPr>
        <p:blipFill>
          <a:blip r:embed="rId4"/>
          <a:stretch/>
        </p:blipFill>
        <p:spPr>
          <a:xfrm>
            <a:off x="6019920" y="39625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2057400" y="5638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help Oskar escape the for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Oval Callout 8" descr=""/>
          <p:cNvPicPr/>
          <p:nvPr/>
        </p:nvPicPr>
        <p:blipFill>
          <a:blip r:embed="rId5"/>
          <a:stretch/>
        </p:blipFill>
        <p:spPr>
          <a:xfrm>
            <a:off x="6370560" y="3402000"/>
            <a:ext cx="676440" cy="579600"/>
          </a:xfrm>
          <a:prstGeom prst="rect">
            <a:avLst/>
          </a:prstGeom>
          <a:ln w="9360">
            <a:solidFill>
              <a:srgbClr val="ff811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5:40:28Z</dcterms:created>
  <dc:creator>Administrator</dc:creator>
  <dc:description/>
  <dc:language>en-US</dc:language>
  <cp:lastModifiedBy>E. Sessons</cp:lastModifiedBy>
  <dcterms:modified xsi:type="dcterms:W3CDTF">2008-06-13T16:14:13Z</dcterms:modified>
  <cp:revision>38</cp:revision>
  <dc:subject/>
  <dc:title>Slide 1</dc:title>
</cp:coreProperties>
</file>